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3A3-62AA-4D0B-A7A2-87E5A9B3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823-C762-458E-ADB2-1489C2CE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F85-9CDB-4679-836A-C0C386F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D9F-0A2E-491D-B9F7-51ED8FA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34D-6612-48BC-B6E2-BF07610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327-CA7E-4B89-8E75-69A694F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CC4-DEDA-4748-ABDC-5356698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E21-AAC5-4B03-8FE9-EF3EB7D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5E8-2B99-43AF-A203-2E47AE5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C21-7751-44EB-B557-1AEA8CF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BC0-67E5-4DBF-B6D8-4BFBEED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A0C-E27C-4A0D-868D-A007C64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11D8-4D01-4CDE-8083-FF3652E2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38240"/>
            <a:ext cx="87631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89917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20:38:02Z</dcterms:created>
  <dc:creator>ASD</dc:creator>
  <dc:description/>
  <dc:language>en-US</dc:language>
  <cp:lastModifiedBy>ASD</cp:lastModifiedBy>
  <dcterms:modified xsi:type="dcterms:W3CDTF">2010-06-16T20:39:08Z</dcterms:modified>
  <cp:revision>1</cp:revision>
  <dc:subject/>
  <dc:title>Slide 1</dc:title>
</cp:coreProperties>
</file>